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561-76C8-4E0C-940F-4DF692B3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7FA-C9E6-452F-B06A-97577F7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3F8-10A6-44DA-99A3-BF954B2A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337-A564-4B3F-AB73-8D0D72FE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A08-6568-4905-A6FD-04586D0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67D-4033-4ABD-8CE6-E46C2E78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D5A-A9C0-4683-961C-EE3680C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B92-A981-468F-A657-F920D53D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8A3-FD15-4787-8811-DBEB2A1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C03-B37E-4FD1-8449-C4FC0EE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E53-722A-4293-9DF0-DB959CB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32B-B553-4C2A-A08E-A1840BF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275B-F645-4799-8482-B014289D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01 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octubre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la Prueba del Repaso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INDIVIDU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ermano de mi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el hijo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____________: la hija de mi her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9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looking in your notebooks; Conjugate and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2362320"/>
          <a:ext cx="9067680" cy="3932280"/>
        </p:xfrm>
        <a:graphic>
          <a:graphicData uri="http://schemas.openxmlformats.org/drawingml/2006/table">
            <a:tbl>
              <a:tblPr/>
              <a:tblGrid>
                <a:gridCol w="3022560"/>
                <a:gridCol w="3022560"/>
                <a:gridCol w="3022560"/>
              </a:tblGrid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4"/>
          <p:cNvSpPr/>
          <p:nvPr/>
        </p:nvSpPr>
        <p:spPr>
          <a:xfrm>
            <a:off x="3939840" y="302724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66120" y="3733920"/>
            <a:ext cx="138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017960" y="4398840"/>
            <a:ext cx="117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5200" y="5008680"/>
            <a:ext cx="185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en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67200" y="5770440"/>
            <a:ext cx="140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2d2d8a"/>
                </a:solidFill>
                <a:latin typeface="Arial"/>
              </a:rPr>
              <a:t>ie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9792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I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51760" y="3728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You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252120" y="426708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s/he h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550200" y="5100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(We 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6640" y="5710320"/>
            <a:ext cx="230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(They ha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You [pol. pl.] h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herman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n el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Y cuántos años tien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 perro o un g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¿Tiene tu padre o tu madre un car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n la escuela, ¿tienes que estudiar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¿Y tienen que trabajar mucho tus pad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b05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tu mejor amigo, ¿Cuántos año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ds.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onde vive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a casa privad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summer project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5-10-19T19:22:43Z</dcterms:modified>
  <cp:revision>16</cp:revision>
  <dc:subject/>
  <dc:title>Slide 1</dc:title>
</cp:coreProperties>
</file>